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7B8F-40FD-40E7-A87D-EE972F75EAAE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CE6F-9934-4D91-99F5-729B1B59FD2C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37F3-723A-46B5-953E-0CEFFF6A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5D9-257C-4BF1-9026-E0BF5783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3D8-9928-4F58-86AC-CF6F3167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A004-2931-41B9-BAD2-83CE4E33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1055-FFD4-4A48-838D-5F8B5D53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36BB-978F-43E3-B169-EB492C6A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E7A-81E3-412A-B91F-166862E9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9A5-DE4F-4542-A534-7A140AAC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EDC6-B81E-4B20-93D0-E93A45CF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B64-D94E-4DDD-8BD9-4D5F16C4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EE8F-CB97-4D09-8685-749FB382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050-1CEA-498D-8D42-2080B65C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1BF6-4CFC-416C-9AB0-D6D6A777D5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7988040" cy="23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Times New Roman"/>
              </a:rPr>
              <a:t>Химия                     биология</a:t>
            </a:r>
            <a:br>
              <a:rPr sz="4800"/>
            </a:br>
            <a:r>
              <a:rPr b="0" lang="ru-RU" sz="4800" spc="-1" strike="noStrike">
                <a:solidFill>
                  <a:srgbClr val="7030a0"/>
                </a:solidFill>
                <a:latin typeface="Times New Roman"/>
              </a:rPr>
              <a:t>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4723920"/>
            <a:ext cx="7521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химии Маркарян И.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биологии Клёнова Ю.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ОУ СОШ №1 п.г.т. Забайкальс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Двойная стрелка влево/вправо 3"/>
          <p:cNvSpPr/>
          <p:nvPr/>
        </p:nvSpPr>
        <p:spPr>
          <a:xfrm>
            <a:off x="3276720" y="1871640"/>
            <a:ext cx="1944720" cy="647640"/>
          </a:xfrm>
          <a:prstGeom prst="leftRightArrow">
            <a:avLst>
              <a:gd name="adj1" fmla="val 50000"/>
              <a:gd name="adj2" fmla="val 5004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6012000" y="2587680"/>
            <a:ext cx="209052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"/>
          <p:cNvPicPr/>
          <p:nvPr/>
        </p:nvPicPr>
        <p:blipFill>
          <a:blip r:embed="rId2"/>
          <a:stretch/>
        </p:blipFill>
        <p:spPr>
          <a:xfrm>
            <a:off x="1041480" y="2741760"/>
            <a:ext cx="1585800" cy="1587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авить рекомендации по правильному дыхан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здесущий, всемогущий и в то же время невидимый – все эти три эпитета можно отнести к кислороду. Объясните, как вы это понимае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асибо за работу на уро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2627280" y="3141720"/>
            <a:ext cx="4105440" cy="2868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42508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262626"/>
                </a:solidFill>
                <a:latin typeface="Times New Roman"/>
              </a:rPr>
              <a:t>ЗНАЧЕНИЕ ДЫХАНИЯ. 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Times New Roman"/>
              </a:rPr>
              <a:t>Биологическая роль кислор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140000" y="3789360"/>
            <a:ext cx="48956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WINDOWS.wma" descr=""/>
          <p:cNvPicPr/>
          <p:nvPr/>
        </p:nvPicPr>
        <p:blipFill>
          <a:blip r:embed="rId1"/>
          <a:stretch/>
        </p:blipFill>
        <p:spPr>
          <a:xfrm>
            <a:off x="-10447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Admin\Рабочий стол\Органы дыхания\0020-020-Dykhatelnaja-sistema[1].jpg"/>
          <p:cNvPicPr/>
          <p:nvPr/>
        </p:nvPicPr>
        <p:blipFill>
          <a:blip r:embed="rId2"/>
          <a:stretch/>
        </p:blipFill>
        <p:spPr>
          <a:xfrm>
            <a:off x="539640" y="3141720"/>
            <a:ext cx="3024360" cy="3525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</a:rPr>
              <a:t>«Верю, не верю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Рисунок 5" descr=""/>
          <p:cNvPicPr/>
          <p:nvPr/>
        </p:nvPicPr>
        <p:blipFill>
          <a:blip r:embed="rId1"/>
          <a:stretch/>
        </p:blipFill>
        <p:spPr>
          <a:xfrm>
            <a:off x="3798720" y="3213000"/>
            <a:ext cx="2735280" cy="2737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Скругленный прямоугольник 4"/>
          <p:cNvSpPr/>
          <p:nvPr/>
        </p:nvSpPr>
        <p:spPr>
          <a:xfrm>
            <a:off x="324000" y="115920"/>
            <a:ext cx="3887640" cy="2952720"/>
          </a:xfrm>
          <a:prstGeom prst="roundRect">
            <a:avLst>
              <a:gd name="adj" fmla="val 16667"/>
            </a:avLst>
          </a:prstGeom>
          <a:solidFill>
            <a:srgbClr val="2d2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еспечение организма кислородом (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) и использование его в окислительно – восстановительных процесса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5003640" y="115920"/>
            <a:ext cx="3816360" cy="2952720"/>
          </a:xfrm>
          <a:prstGeom prst="roundRect">
            <a:avLst>
              <a:gd name="adj" fmla="val 16667"/>
            </a:avLst>
          </a:prstGeom>
          <a:solidFill>
            <a:srgbClr val="2d2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разование и удаление из организма избытка двуокиси углерода (СО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Скругленный прямоугольник 6"/>
          <p:cNvSpPr/>
          <p:nvPr/>
        </p:nvSpPr>
        <p:spPr>
          <a:xfrm>
            <a:off x="324000" y="3716280"/>
            <a:ext cx="3887640" cy="3025800"/>
          </a:xfrm>
          <a:prstGeom prst="roundRect">
            <a:avLst>
              <a:gd name="adj" fmla="val 16667"/>
            </a:avLst>
          </a:prstGeom>
          <a:solidFill>
            <a:srgbClr val="2d2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Окисление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(распад) органических соединений с высвобождением энергии, необходимой для осуществления физиологических функций организм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Скругленный прямоугольник 7"/>
          <p:cNvSpPr/>
          <p:nvPr/>
        </p:nvSpPr>
        <p:spPr>
          <a:xfrm>
            <a:off x="5219640" y="3716280"/>
            <a:ext cx="3745080" cy="3025800"/>
          </a:xfrm>
          <a:prstGeom prst="roundRect">
            <a:avLst>
              <a:gd name="adj" fmla="val 16667"/>
            </a:avLst>
          </a:prstGeom>
          <a:solidFill>
            <a:srgbClr val="2d2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даление некоторых конечных продуктов обмена веществ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 паров воды (Н2О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 аммиака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 сероводорода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)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 других газо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Овал 8"/>
          <p:cNvSpPr/>
          <p:nvPr/>
        </p:nvSpPr>
        <p:spPr>
          <a:xfrm>
            <a:off x="2916360" y="1857240"/>
            <a:ext cx="3189240" cy="242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I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ЗНАЧЕНИЕ ДЫХАНИЯ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ДЫХ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совокупность физиологических процессов, включающих газообмен между организмом и окружающей средой и сложную цепь биохимических реакций с участием кислор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000" y="2276640"/>
            <a:ext cx="83516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функции ДЫХА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Газообм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Голосообраз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плорегуля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imes New Roman"/>
              </a:rPr>
              <a:t>III. </a:t>
            </a: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Известно, что в организме человека содержится по массе 65% кислорода. Вычислите, сколько кислорода содержится в вашем организ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4" descr=""/>
          <p:cNvPicPr/>
          <p:nvPr/>
        </p:nvPicPr>
        <p:blipFill>
          <a:blip r:embed="rId1"/>
          <a:stretch/>
        </p:blipFill>
        <p:spPr>
          <a:xfrm>
            <a:off x="3492360" y="4076640"/>
            <a:ext cx="2735280" cy="2052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уть, по которому кислород поступает в организ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совая полость – гортань – трахея – бронхи – легкие – альвео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2411280" y="3421080"/>
            <a:ext cx="4321440" cy="2914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Объяс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4440240" cy="3633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imes New Roman"/>
              </a:rPr>
              <a:t>VII</a:t>
            </a: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. Полу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ктическая раб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Рисунок 3" descr=""/>
          <p:cNvPicPr/>
          <p:nvPr/>
        </p:nvPicPr>
        <p:blipFill>
          <a:blip r:embed="rId1"/>
          <a:stretch/>
        </p:blipFill>
        <p:spPr>
          <a:xfrm>
            <a:off x="3419640" y="2781360"/>
            <a:ext cx="3960720" cy="3344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8T07:05:02Z</dcterms:created>
  <dc:creator> </dc:creator>
  <dc:description/>
  <dc:language>en-US</dc:language>
  <cp:lastModifiedBy>учитель</cp:lastModifiedBy>
  <dcterms:modified xsi:type="dcterms:W3CDTF">2022-01-27T01:32:25Z</dcterms:modified>
  <cp:revision>98</cp:revision>
  <dc:subject/>
  <dc:title>Устройство увеличительных приборов и  правила работы с ними.</dc:title>
</cp:coreProperties>
</file>